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408E-5D78-4187-A369-B791488718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9A6C-A9C5-4663-83DB-EABE9C8EB1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039A-1DBF-4E17-A023-BA84FEAA5C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6C1B-0162-494E-9953-A24953F56A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CF96-F9EE-4005-B2E7-2C20B92D6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C511-2EBF-43C7-88BD-229278041F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DFC7-F43B-4E8B-9728-D0EA288BCA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C472-61BB-42AF-9870-72616AAEEB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DD4A-6DF0-4640-9F46-68E5EBDFDF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4E20-36DB-48E3-A61E-92765F3DD6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62D-BA7D-4023-95F8-4058A237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AFD-9BFC-49C3-8865-201AB287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917-A07E-486E-A957-F13EB8AC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CBD-48FA-4959-A726-BB237CD6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9F39-8985-41CB-A755-2932594E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ED22-156D-4858-A40A-D699A41E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08EC-41AA-4F8F-8DB6-A99DF752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BEA4-43CB-4834-A72B-8AA1143B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E0E4-8328-4A6E-96DF-EB8A3574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0F8B-10F7-44B9-B374-E1A6EE2F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2A52-9096-4E5E-9FFA-46BA0CC3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024-3B5B-4171-B2F0-98471FCA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5C63-8433-4B20-938D-5DA47862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8DA7-DC85-4F6E-86F0-AC036261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0012-FF93-4826-BE91-4EF48BF0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F8A9-02D6-4F1E-9807-A11BA1B2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4DD0-A5FA-4DEE-92A1-99150AAF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97B-410B-4CED-ACA3-6BD339A8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A20-AC52-4B62-9E04-286720FC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FAF-8604-46AA-8F98-9C13BC5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E12-5971-4A8F-AF81-E5B6351E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638-3CAB-4DDB-A9B7-A59C64E5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BB9-F392-4164-90F4-8595222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708-E155-42D4-8DBF-A06A89B4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CE17-3CA5-40B6-8789-BC19791F65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BB58-3962-4A5C-9443-CF0A376C64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Ц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Найди тень от буквы Ц и раскрась её. 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Какие ещё буквы отбрасывают тень?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751040" y="2357280"/>
            <a:ext cx="710712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7215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Ц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85960" y="2214720"/>
            <a:ext cx="7215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643040" y="2428920"/>
            <a:ext cx="7143840" cy="1357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786040" y="250020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571840" y="2357280"/>
            <a:ext cx="714240" cy="13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428200" y="2357280"/>
            <a:ext cx="78588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356560" y="24289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286000" y="257184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999520" y="242892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356560" y="3000240"/>
            <a:ext cx="35748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3285360" y="2643120"/>
            <a:ext cx="2142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2286000" y="3214800"/>
            <a:ext cx="2858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7861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7861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7861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7861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7861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7861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7861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7861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857760" y="357192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26"/>
          <p:cNvSpPr/>
          <p:nvPr/>
        </p:nvSpPr>
        <p:spPr>
          <a:xfrm flipH="1">
            <a:off x="45720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6"/>
          <p:cNvSpPr/>
          <p:nvPr/>
        </p:nvSpPr>
        <p:spPr>
          <a:xfrm flipH="1">
            <a:off x="86439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56"/>
          <p:cNvSpPr/>
          <p:nvPr/>
        </p:nvSpPr>
        <p:spPr>
          <a:xfrm flipH="1">
            <a:off x="85726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7200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215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7074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730520" y="1714680"/>
            <a:ext cx="727056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785960" y="2357280"/>
            <a:ext cx="6900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7T09:29:44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